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B8B5-DC2E-48C2-AED4-D48B64291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2100-31AA-4D8A-B88A-13E28D268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6817-3755-421B-8B9F-A2AD400AB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B3F5-18F3-4D9E-8732-4F010B96F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7E03-2F24-4466-ABD5-2A4190BFE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4B81-D2EE-4EE7-AF5C-200B7B3A9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AC39-8119-444D-ADDB-700B56E00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E9C5-E00A-4AE9-8D88-DB4DB0038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1755-F170-451B-8224-76C0D0B58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9894-B22A-4AB0-B2E1-36E134ECE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3FF3-5FF7-4C4C-A642-CC9C3979D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6AB0-FBAF-4BF0-A282-D881D240E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C51DD-6BB8-44A8-978D-E509E29809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1951018tSNAoaKomf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267440" y="0"/>
            <a:ext cx="5863680" cy="68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  <a:cs typeface="Arabic Transparent"/>
              </a:rPr>
              <a:t>يا أبانا لستُ أدر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  <a:cs typeface="Arabic Transparent"/>
              </a:rPr>
              <a:t>كيف كان عمري يجر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  <a:cs typeface="Arabic Transparent"/>
              </a:rPr>
              <a:t>دون أن أدركَ أنّك أنت أب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  <a:cs typeface="Arabic Transparent"/>
              </a:rPr>
              <a:t>لكنّي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Arabic Transparent"/>
              </a:rPr>
              <a:t> الآن إبنُ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نت ترعاني بحبِّ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rabic Transparent"/>
              </a:rPr>
              <a:t>فلن أخافَ أبدا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rabic Transparent"/>
              </a:rPr>
              <a:t>لأنّك تُمسِك يمين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سـأسـبِّحُكَ وأهتفُ ل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rabic Transparent"/>
              </a:rPr>
              <a:t>للأبد أنا لك، للأب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سـأسـبِّحُكَ وأهتفُ ل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rabic Transparent"/>
              </a:rPr>
              <a:t>للأبد أنا لك، للأب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8:51:00Z</dcterms:created>
  <dc:creator>USER</dc:creator>
  <dc:description/>
  <dc:language>en-US</dc:language>
  <cp:lastModifiedBy>USER</cp:lastModifiedBy>
  <dcterms:modified xsi:type="dcterms:W3CDTF">2002-10-30T19:05:30Z</dcterms:modified>
  <cp:revision>8</cp:revision>
  <dc:subject/>
  <dc:title>PowerPoint Presentation</dc:title>
</cp:coreProperties>
</file>